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94E-95FD-461A-AC45-B9BC7953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BEB-AD2F-4AFB-9F4F-C11E1D5D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4FB-785B-492F-913D-9AAD0C7D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924-0A7C-4FDC-9F38-69EC4B1A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A1D-80F7-4E99-B40D-2E09B96A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9BE-4BB1-4918-8C17-4CBD54B4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A54-E299-41A0-B807-66712712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262-5D92-4A3B-9A21-CE2778FE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8DF-096C-479A-BE43-E19CBA16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568-D88B-4829-ABF4-5911C25D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ABA-257E-4813-88F4-7CAA18A0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57B-E4E0-42FF-9BC5-77116230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C4EA-D2DF-4E9E-B0C1-4B7B9632EFDD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2/SpongeColorCorrect.jpg" TargetMode="External"/><Relationship Id="rId2" Type="http://schemas.openxmlformats.org/officeDocument/2006/relationships/hyperlink" Target="http://upload.wikimedia.org/wikipedia/commons/6/62/SpongeColorCorrect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upload.wikimedia.org/wikipedia/commons/3/36/Sea_nettles.jpg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6/Bedford%27s_Flatworm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99"/>
                </a:solidFill>
                <a:latin typeface="Times New Roman"/>
              </a:rPr>
              <a:t>Kingdom Animalia</a:t>
            </a: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By: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Jenny Yurky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eghan Ilig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Emily Sasal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ommon Characteristics 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57200" y="1981080"/>
            <a:ext cx="7772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ve many cell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Usually reproduce by sexual reproduction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evelop from embryos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ve many specialized parts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ey move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ey are consumers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Physical Characteristic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57200" y="190512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ody Symmetry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Web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adial Symmetry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Web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ilateral Symmetry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Web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symmetry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3520" y="528804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ephalizatio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257800" y="1905120"/>
            <a:ext cx="4114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Gastrovascular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avity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oelom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gmentatio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Phylum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14400" y="190512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orifer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52280" y="28954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762120" y="32004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920" y="29718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4" name="Picture 8" descr="File:SpongeColorCorrec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7241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5334120" y="1828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nidaria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6" name="Picture 11" descr="File:Sea nettle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2743200"/>
            <a:ext cx="40402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6212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latyhelminthes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Nematoda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8" name="Picture 4" descr="File:Bedford's Flatwor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5146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ucmp.berkeley.edu/phyla/ecdysozoa/nematode.jpg"/>
          <p:cNvPicPr/>
          <p:nvPr/>
        </p:nvPicPr>
        <p:blipFill>
          <a:blip r:embed="rId3"/>
          <a:stretch/>
        </p:blipFill>
        <p:spPr>
          <a:xfrm>
            <a:off x="5370480" y="2514600"/>
            <a:ext cx="28972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09480" y="1066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Rotifera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ollusca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0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2" name="Picture 5" descr="Click to view"/>
          <p:cNvPicPr/>
          <p:nvPr/>
        </p:nvPicPr>
        <p:blipFill>
          <a:blip r:embed="rId1"/>
          <a:stretch/>
        </p:blipFill>
        <p:spPr>
          <a:xfrm>
            <a:off x="5334120" y="2514600"/>
            <a:ext cx="3336840" cy="22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File:Bdelloid.JPG"/>
          <p:cNvPicPr/>
          <p:nvPr/>
        </p:nvPicPr>
        <p:blipFill>
          <a:blip r:embed="rId2"/>
          <a:stretch/>
        </p:blipFill>
        <p:spPr>
          <a:xfrm>
            <a:off x="609480" y="2057400"/>
            <a:ext cx="3567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352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nnelida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rthropod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5" name="Picture 3" descr="http://rickoshea.files.wordpress.com/2007/10/leeches.gif"/>
          <p:cNvPicPr/>
          <p:nvPr/>
        </p:nvPicPr>
        <p:blipFill>
          <a:blip r:embed="rId1"/>
          <a:stretch/>
        </p:blipFill>
        <p:spPr>
          <a:xfrm>
            <a:off x="838080" y="2514600"/>
            <a:ext cx="2941920" cy="272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ermit Crab"/>
          <p:cNvPicPr/>
          <p:nvPr/>
        </p:nvPicPr>
        <p:blipFill>
          <a:blip r:embed="rId2"/>
          <a:stretch/>
        </p:blipFill>
        <p:spPr>
          <a:xfrm>
            <a:off x="4876920" y="2590920"/>
            <a:ext cx="37494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0948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Echinodermata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hordata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8" name="Picture 3" descr="http://www.tankedup-imaging.com/images/prickly_red_sea_cucumber.jpg"/>
          <p:cNvPicPr/>
          <p:nvPr/>
        </p:nvPicPr>
        <p:blipFill>
          <a:blip r:embed="rId1"/>
          <a:stretch/>
        </p:blipFill>
        <p:spPr>
          <a:xfrm>
            <a:off x="838080" y="2438280"/>
            <a:ext cx="3581640" cy="268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giraffes.org/giraffe.jpg"/>
          <p:cNvPicPr/>
          <p:nvPr/>
        </p:nvPicPr>
        <p:blipFill>
          <a:blip r:embed="rId2"/>
          <a:stretch/>
        </p:blipFill>
        <p:spPr>
          <a:xfrm>
            <a:off x="4892760" y="2438280"/>
            <a:ext cx="394632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0" descr="http://upload.wikimedia.org/wikipedia/commons/thumb/6/6e/Schrecklicherpfeilgiftfrosch-01.jpg/240px-Schrecklicherpfeilgiftfrosch-01.jpg"/>
          <p:cNvPicPr/>
          <p:nvPr/>
        </p:nvPicPr>
        <p:blipFill>
          <a:blip r:embed="rId1"/>
          <a:srcRect l="13878" t="12589" r="5561" b="10265"/>
          <a:stretch/>
        </p:blipFill>
        <p:spPr>
          <a:xfrm>
            <a:off x="228600" y="52578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http://www.ichatgay.com/img_blog/abercrombie_london.jpg"/>
          <p:cNvPicPr/>
          <p:nvPr/>
        </p:nvPicPr>
        <p:blipFill>
          <a:blip r:embed="rId2"/>
          <a:srcRect l="50004" t="0" r="0" b="0"/>
          <a:stretch/>
        </p:blipFill>
        <p:spPr>
          <a:xfrm>
            <a:off x="2666880" y="1828800"/>
            <a:ext cx="1743120" cy="3486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oregonstate.edu/ornhic/images/topleftbig.jpg"/>
          <p:cNvPicPr/>
          <p:nvPr/>
        </p:nvPicPr>
        <p:blipFill>
          <a:blip r:embed="rId3"/>
          <a:stretch/>
        </p:blipFill>
        <p:spPr>
          <a:xfrm>
            <a:off x="5181480" y="1760400"/>
            <a:ext cx="2133720" cy="1440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Vertebrate vs. Invertebrate 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74" name="Picture 10" descr="http://farm1.static.flickr.com/200/484545252_1dee81496f.jpg"/>
          <p:cNvPicPr/>
          <p:nvPr/>
        </p:nvPicPr>
        <p:blipFill>
          <a:blip r:embed="rId4"/>
          <a:srcRect l="0" t="0" r="20008" b="0"/>
          <a:stretch/>
        </p:blipFill>
        <p:spPr>
          <a:xfrm>
            <a:off x="5029200" y="32004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http://oceanexplorer.noaa.gov/explorations/03mex/background/plan/media/bandedtulipsnail_600.jpg"/>
          <p:cNvPicPr/>
          <p:nvPr/>
        </p:nvPicPr>
        <p:blipFill>
          <a:blip r:embed="rId5"/>
          <a:stretch/>
        </p:blipFill>
        <p:spPr>
          <a:xfrm>
            <a:off x="7315200" y="1905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http://www.awaecology.co.uk/images/190009-hornet.jpg"/>
          <p:cNvPicPr/>
          <p:nvPr/>
        </p:nvPicPr>
        <p:blipFill>
          <a:blip r:embed="rId6"/>
          <a:stretch/>
        </p:blipFill>
        <p:spPr>
          <a:xfrm>
            <a:off x="5181480" y="4648320"/>
            <a:ext cx="3581640" cy="199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://z.about.com/d/saltaquarium/1/0/z/a/rortonstar_400.JPG"/>
          <p:cNvPicPr/>
          <p:nvPr/>
        </p:nvPicPr>
        <p:blipFill>
          <a:blip r:embed="rId7"/>
          <a:stretch/>
        </p:blipFill>
        <p:spPr>
          <a:xfrm>
            <a:off x="6553080" y="30290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http://a.abcnews.com/images/Technology/ht_chameleon_080410_ssh.jpg"/>
          <p:cNvPicPr/>
          <p:nvPr/>
        </p:nvPicPr>
        <p:blipFill>
          <a:blip r:embed="rId8"/>
          <a:srcRect l="0" t="23055" r="6321" b="13564"/>
          <a:stretch/>
        </p:blipFill>
        <p:spPr>
          <a:xfrm>
            <a:off x="152280" y="3941640"/>
            <a:ext cx="2514600" cy="1316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http://www.vertebrates.com/baby-elephant.jpg"/>
          <p:cNvPicPr/>
          <p:nvPr/>
        </p:nvPicPr>
        <p:blipFill>
          <a:blip r:embed="rId9"/>
          <a:srcRect l="0" t="0" r="12819" b="0"/>
          <a:stretch/>
        </p:blipFill>
        <p:spPr>
          <a:xfrm>
            <a:off x="457200" y="16765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http://www.neoperceptions.com/fauna/birds/scbirds/images/brownthrasher1a.jpg"/>
          <p:cNvPicPr/>
          <p:nvPr/>
        </p:nvPicPr>
        <p:blipFill>
          <a:blip r:embed="rId10"/>
          <a:srcRect l="9327" t="20141" r="4657" b="11465"/>
          <a:stretch/>
        </p:blipFill>
        <p:spPr>
          <a:xfrm>
            <a:off x="2133720" y="502920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3:25:25Z</dcterms:created>
  <dc:creator>Yurky</dc:creator>
  <dc:description/>
  <dc:language>en-US</dc:language>
  <cp:lastModifiedBy>Teacher</cp:lastModifiedBy>
  <dcterms:modified xsi:type="dcterms:W3CDTF">2009-03-20T14:59:06Z</dcterms:modified>
  <cp:revision>1</cp:revision>
  <dc:subject/>
  <dc:title>Kingdom Animalia </dc:title>
</cp:coreProperties>
</file>